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ED3-1C83-4757-8285-E12CEC1D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89B-A1A0-41DB-BBEE-2CFDAB8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4A6-A730-49A0-9924-F173477B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E98E-A183-497F-9BC0-F5480CEC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4EA2-187C-4D49-98BF-064E3D88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059D-42BC-4DEE-8D93-7193529B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5979-5C1C-49F7-B939-A6DE9CB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FC9E-3E31-4286-ADA8-A1E4384C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178F-842A-4DDD-8FDC-E8AF490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EE9C-30BF-400F-985C-EF5E6C47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A8A0-7FE9-4C64-838A-8E06AC0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3D4-D6C0-49F8-9B92-B5109E97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29DF-C3F3-4A39-99A7-A20DEEB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D15-3304-4DEA-A4E1-71B5C8B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BFBE-6A53-49A6-978D-93C0DA0A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8D0B-3216-4373-9122-88CBB672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C4E-2832-4CFE-B4CD-C9B88F50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17E-BA4A-4055-9285-9E05AAD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DC0-54DD-4117-9E3C-C57872D7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BCE-9014-4702-A667-6D47F0F9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AB2-04E2-4D66-A6C1-69EDD518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AE3-421D-4586-92E6-976282C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E4C-AB74-4982-B045-D05D7CF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562-34FD-4613-91B8-154B5761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E140-18CA-47A3-A702-4A912A0E663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7DF3-7275-4888-8768-AC4FDD1275E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facebook.com/photo.php?pid=1902797&amp;id=113355457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facebook.com/photo.php?pid=77098&amp;id=1133554571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78000" y="450720"/>
            <a:ext cx="8242200" cy="1847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By: Elsa Figuero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5" descr="http://a3.sphotos.ak.fbcdn.net/hphotos-ak-ash1/hs885.ash1/179326_1732303224082_1133554571_1935831_435041_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3048120"/>
            <a:ext cx="3628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Born in the Dominica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Grew up in NYC, Brookly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Two older broth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Moved to Massachusetts at the age of 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Graduated high school in 2004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68120" y="54864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304560" y="1295280"/>
            <a:ext cx="83818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Graduated NECC with an associates in Psycholog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Currently attending Cambridge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Major: Business Managem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bcTeacher"/>
              </a:rPr>
              <a:t>Son named Kaid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5 years ol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bcTeacher"/>
              </a:rPr>
              <a:t>Attends Kindergarte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Love Television, can’t live without 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Not a fan of animal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Big fan of vampires. Twilight, twilight…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My son and I have mommy and kaiden saturday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Love to bak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I love shopping for sho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bcTeacher"/>
              </a:rPr>
              <a:t>I have the best parents in the worl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a1.sphotos.ak.fbcdn.net/photos-ak-snc1/v276/183/23/1133554571/n1133554571_77193_563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960" y="1017720"/>
            <a:ext cx="2176560" cy="245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a3.sphotos.ak.fbcdn.net/photos-ak-snc1/v276/183/23/1133554571/n1133554571_77408_6668.jpg"/>
          <p:cNvPicPr/>
          <p:nvPr/>
        </p:nvPicPr>
        <p:blipFill>
          <a:blip r:embed="rId4"/>
          <a:stretch/>
        </p:blipFill>
        <p:spPr>
          <a:xfrm>
            <a:off x="5778360" y="878040"/>
            <a:ext cx="2676600" cy="318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a4.sphotos.ak.fbcdn.net/hphotos-ak-snc6/hs067.snc6/167722_1756808516699_1133554571_1981415_696132_n.jpg"/>
          <p:cNvPicPr/>
          <p:nvPr/>
        </p:nvPicPr>
        <p:blipFill>
          <a:blip r:embed="rId5"/>
          <a:stretch/>
        </p:blipFill>
        <p:spPr>
          <a:xfrm>
            <a:off x="3005280" y="1158840"/>
            <a:ext cx="2309760" cy="284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a2.sphotos.ak.fbcdn.net/hphotos-ak-snc3/hs070.snc3/13738_1264926699961_1133554571_823124_7265227_n.jpg"/>
          <p:cNvPicPr/>
          <p:nvPr/>
        </p:nvPicPr>
        <p:blipFill>
          <a:blip r:embed="rId6"/>
          <a:stretch/>
        </p:blipFill>
        <p:spPr>
          <a:xfrm>
            <a:off x="530280" y="3803760"/>
            <a:ext cx="3146400" cy="30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ttp://a7.sphotos.ak.fbcdn.net/hphotos-ak-snc3/hs232.snc3/21952_1294781646316_1133554571_912610_8020143_n.jpg"/>
          <p:cNvPicPr/>
          <p:nvPr/>
        </p:nvPicPr>
        <p:blipFill>
          <a:blip r:embed="rId7"/>
          <a:stretch/>
        </p:blipFill>
        <p:spPr>
          <a:xfrm>
            <a:off x="5072040" y="3767040"/>
            <a:ext cx="24256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7:47:34Z</dcterms:created>
  <dc:creator>training</dc:creator>
  <dc:description/>
  <dc:language>en-US</dc:language>
  <cp:lastModifiedBy>ccstudent</cp:lastModifiedBy>
  <dcterms:modified xsi:type="dcterms:W3CDTF">2011-02-06T16:13:32Z</dcterms:modified>
  <cp:revision>9</cp:revision>
  <dc:subject/>
  <dc:title>Simply elsa</dc:title>
</cp:coreProperties>
</file>